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9.png" ContentType="image/png"/>
  <Override PartName="/ppt/media/image21.jpeg" ContentType="image/jpeg"/>
  <Override PartName="/ppt/media/camera.wav" ContentType="audio/x-wav"/>
  <Override PartName="/ppt/media/image18.png" ContentType="image/png"/>
  <Override PartName="/ppt/media/image15.jpeg" ContentType="image/jpeg"/>
  <Override PartName="/ppt/media/image13.png" ContentType="image/png"/>
  <Override PartName="/ppt/media/image16.jpeg" ContentType="image/jpeg"/>
  <Override PartName="/ppt/media/chimes.wav" ContentType="audio/x-wav"/>
  <Override PartName="/ppt/media/image5.png" ContentType="image/png"/>
  <Override PartName="/ppt/media/image10.png" ContentType="image/png"/>
  <Override PartName="/ppt/media/image8.png" ContentType="image/png"/>
  <Override PartName="/ppt/media/image1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248-C575-4C34-8446-1623EEFA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AFA-BD0A-406E-84A0-D459EB23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9C9-E9A8-44E2-AF7E-763BC958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12A-EA91-4AFB-AD8F-C462AF06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9B3-F8B0-4626-9546-2F156D45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896-E42C-458C-8FC1-04C7DFA2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7BF-A708-4414-AA7F-66532689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2CC-1914-4223-A227-CBC93326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97F-AEA4-4A13-AC24-5130E3E1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19E-CA1F-439A-8CE6-081B8B6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CB3-23BC-4F2A-A475-746F40A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3D5-FF19-4B84-ADE5-C0B48F54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F5AB-B170-4AB0-BB7A-D2B30B30C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spiral notebook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1spiral notebook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spiral notebook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1spiral notebook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4362-DAEE-40B8-87B1-1C6175CA3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New Quarter 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ent an arrow into the air and it landed I know not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It was launched at 30 degrees with a velocity of 50m/s. So, how long was it airborn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1BD2-5D28-469F-86E9-61EE3D407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Third Law: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        The Law of Action and Reaction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force on an object, there is always an equal and opposite force exerted by the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e in pairs known as action-reaction pai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657600" y="35053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: tire pushes on roa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: road pushes on t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30541" t="0" r="36268" b="84545"/>
          <a:stretch/>
        </p:blipFill>
        <p:spPr>
          <a:xfrm>
            <a:off x="1143000" y="3505320"/>
            <a:ext cx="2133720" cy="99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rcRect l="13274" t="22614" r="36268" b="60738"/>
          <a:stretch/>
        </p:blipFill>
        <p:spPr>
          <a:xfrm>
            <a:off x="5257800" y="4724280"/>
            <a:ext cx="2895480" cy="1067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838080" y="49528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: gas pushes on r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: rocket pushes on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CD1D-D075-4F1E-B32B-6F0C2AFCE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-Reaction P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rcRect l="37183" t="45216" r="34937" b="36942"/>
          <a:stretch/>
        </p:blipFill>
        <p:spPr>
          <a:xfrm>
            <a:off x="762120" y="129528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2438280" y="121932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: man pulls on spring   Reaction: spring pulls on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25229" t="65455" r="49553" b="4806"/>
          <a:stretch/>
        </p:blipFill>
        <p:spPr>
          <a:xfrm>
            <a:off x="7010280" y="1981080"/>
            <a:ext cx="1447920" cy="1905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59092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: Earth pulls on bal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on: ball pulls on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3"/>
          <a:srcRect l="20011" t="12113" r="0" b="1575"/>
          <a:stretch/>
        </p:blipFill>
        <p:spPr>
          <a:xfrm>
            <a:off x="1219320" y="3809880"/>
            <a:ext cx="200664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3505320" y="403848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interaction between the hammer and the stake, each exerts the same amount of force on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866C-8B57-468E-9D47-4D5C2F2DE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3886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objects at rest on a surface have pairs of forces acting o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force incline"/>
          <p:cNvPicPr/>
          <p:nvPr/>
        </p:nvPicPr>
        <p:blipFill>
          <a:blip r:embed="rId1"/>
          <a:srcRect l="53645" t="21426" r="25402" b="24202"/>
          <a:stretch/>
        </p:blipFill>
        <p:spPr>
          <a:xfrm>
            <a:off x="4876920" y="380880"/>
            <a:ext cx="2819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834D-592B-41E3-B5C8-74CD225A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ce exerted against the recoiling rifle is just as great as the force that drives the bullet.  Why, then, does the bullet accelerate more than the rifl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2942" t="6285" r="984" b="14183"/>
          <a:stretch/>
        </p:blipFill>
        <p:spPr>
          <a:xfrm>
            <a:off x="609480" y="2819520"/>
            <a:ext cx="815364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8958-E207-462B-ACE6-D21C86BD0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Script MT Bold"/>
              </a:rPr>
              <a:t>(2)Dynamic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Weight vs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ECFA-76F4-4FEA-A335-50E68B570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ass vs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antity of matter in an object…the amount of stuff…measur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ilo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measur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ert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the gravitational force on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orce            </a:t>
            </a: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505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easured in Newtons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1860-2C22-4D73-B79C-06D803230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ass vs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4876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vil in outer space, between the Earth and Moon, for example, may be weightless, but it is not massl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14440" y="4800600"/>
            <a:ext cx="4724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tronaut in space finds it is just as difficult to shake the "weightless" anvil as it would be on Ear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3328" t="6286" r="24439" b="11253"/>
          <a:stretch/>
        </p:blipFill>
        <p:spPr>
          <a:xfrm>
            <a:off x="1143000" y="411480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rcRect l="14066" t="4797" r="10855" b="11192"/>
          <a:stretch/>
        </p:blipFill>
        <p:spPr>
          <a:xfrm>
            <a:off x="5867280" y="2057400"/>
            <a:ext cx="2438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5566-686C-45E1-9050-AF09A2240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wo Kinds of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Gravitational M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mass measured by a beam balance or spring scale – measured from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nertial M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mass of an object is the ratio of the net force exerted on the object and its accel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CE30-60EB-40E4-A7EA-1D7F994D0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io of weight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mass (m) is the same for all objects in the same locality; hence, their accelerations are the same in the absence of air res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11253" t="1835" r="6252" b="21157"/>
          <a:stretch/>
        </p:blipFill>
        <p:spPr>
          <a:xfrm>
            <a:off x="2666880" y="2286000"/>
            <a:ext cx="38862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A349-A7D7-410E-A5F1-E6488B61E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(3)Dynam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ree Body Diagra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Net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9646-39D1-4192-B834-283003955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Script MT Bold"/>
              </a:rPr>
              <a:t>(1)Dynamic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Newton’s Laws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FAF6-7B30-4C62-B707-E3841C098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ces Come in Many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forces can be calculated using 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identify your fo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Opposing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rictional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n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ift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Drag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B0B4-2F0A-46D1-8949-92B3329FF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ree Body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all of the forces on an object at a given time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bstract form (rectangle, circle, etc.) to represent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indicated by arrow pointing in the direction of the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ngth of the arrow is relative to the magnitude of the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96BB-4217-46B3-9B2C-3DC790E8B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4444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BD of an object moving across a flat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FBD"/>
          <p:cNvPicPr/>
          <p:nvPr/>
        </p:nvPicPr>
        <p:blipFill>
          <a:blip r:embed="rId1"/>
          <a:srcRect l="14499" t="0" r="14499" b="25922"/>
          <a:stretch/>
        </p:blipFill>
        <p:spPr>
          <a:xfrm>
            <a:off x="1219320" y="1447920"/>
            <a:ext cx="7010280" cy="41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3DC-2DF6-4F61-BB4E-76505C13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Fo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 force is the sum of all forces acting on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wo forces act on an object the forces are cumulative (they are added togeth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force is called a resultant and can be calculated using geome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E949-6722-4047-8EF2-754201F3C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Net Force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t force is the sum of all the forces acting on an object in a given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force on wall"/>
          <p:cNvPicPr/>
          <p:nvPr/>
        </p:nvPicPr>
        <p:blipFill>
          <a:blip r:embed="rId1"/>
          <a:srcRect l="0" t="0" r="10230" b="14512"/>
          <a:stretch/>
        </p:blipFill>
        <p:spPr>
          <a:xfrm>
            <a:off x="3733920" y="1371600"/>
            <a:ext cx="522288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5463-7948-4481-A93F-D2A047403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tillery+f02-10"/>
          <p:cNvPicPr/>
          <p:nvPr/>
        </p:nvPicPr>
        <p:blipFill>
          <a:blip r:embed="rId1"/>
          <a:srcRect l="0" t="17502" r="0" b="19995"/>
          <a:stretch/>
        </p:blipFill>
        <p:spPr>
          <a:xfrm>
            <a:off x="2819520" y="4343400"/>
            <a:ext cx="5333760" cy="21859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Fo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e and the direction of movement of this ship are determined by a combination of direction and magnitude of force from each of the tugboa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direction are the two tugboats pushing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ugboat by the numbers is pushing with a greater force and the back tugboat is keeping the ship from moving, what will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58AA-7A28-4A3D-8D33-4370E259D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orces are Vectors so Directions are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431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207040" y="3116160"/>
            <a:ext cx="1368720" cy="1067040"/>
            <a:chOff x="5207040" y="3116160"/>
            <a:chExt cx="1368720" cy="1067040"/>
          </a:xfrm>
        </p:grpSpPr>
        <p:sp>
          <p:nvSpPr>
            <p:cNvPr id="162" name="Line 5"/>
            <p:cNvSpPr/>
            <p:nvPr/>
          </p:nvSpPr>
          <p:spPr>
            <a:xfrm flipV="1">
              <a:off x="5207040" y="3116160"/>
              <a:ext cx="0" cy="1067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5319000" y="3317760"/>
              <a:ext cx="12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ce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5203800" y="4273560"/>
            <a:ext cx="1371960" cy="1066680"/>
            <a:chOff x="5203800" y="4273560"/>
            <a:chExt cx="1371960" cy="1066680"/>
          </a:xfrm>
        </p:grpSpPr>
        <p:sp>
          <p:nvSpPr>
            <p:cNvPr id="165" name="Line 8"/>
            <p:cNvSpPr/>
            <p:nvPr/>
          </p:nvSpPr>
          <p:spPr>
            <a:xfrm>
              <a:off x="5203800" y="4273560"/>
              <a:ext cx="0" cy="1066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5319000" y="4537080"/>
              <a:ext cx="12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ce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Oval 10"/>
          <p:cNvSpPr/>
          <p:nvPr/>
        </p:nvSpPr>
        <p:spPr>
          <a:xfrm>
            <a:off x="1905120" y="3962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431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2362320" y="2895120"/>
            <a:ext cx="1368720" cy="1066680"/>
            <a:chOff x="2362320" y="2895120"/>
            <a:chExt cx="1368720" cy="1066680"/>
          </a:xfrm>
        </p:grpSpPr>
        <p:sp>
          <p:nvSpPr>
            <p:cNvPr id="169" name="Line 12"/>
            <p:cNvSpPr/>
            <p:nvPr/>
          </p:nvSpPr>
          <p:spPr>
            <a:xfrm flipV="1">
              <a:off x="2362320" y="2895120"/>
              <a:ext cx="0" cy="1066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2474280" y="3097080"/>
              <a:ext cx="12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ce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4"/>
          <p:cNvGrpSpPr/>
          <p:nvPr/>
        </p:nvGrpSpPr>
        <p:grpSpPr>
          <a:xfrm>
            <a:off x="763200" y="2895480"/>
            <a:ext cx="1319760" cy="1067040"/>
            <a:chOff x="763200" y="2895480"/>
            <a:chExt cx="1319760" cy="1067040"/>
          </a:xfrm>
        </p:grpSpPr>
        <p:sp>
          <p:nvSpPr>
            <p:cNvPr id="172" name="Line 15"/>
            <p:cNvSpPr/>
            <p:nvPr/>
          </p:nvSpPr>
          <p:spPr>
            <a:xfrm flipV="1">
              <a:off x="2082960" y="2895480"/>
              <a:ext cx="0" cy="1067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763200" y="3114720"/>
              <a:ext cx="12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ce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7"/>
          <p:cNvGrpSpPr/>
          <p:nvPr/>
        </p:nvGrpSpPr>
        <p:grpSpPr>
          <a:xfrm>
            <a:off x="2209680" y="1828440"/>
            <a:ext cx="1713240" cy="2133720"/>
            <a:chOff x="2209680" y="1828440"/>
            <a:chExt cx="1713240" cy="2133720"/>
          </a:xfrm>
        </p:grpSpPr>
        <p:sp>
          <p:nvSpPr>
            <p:cNvPr id="175" name="Line 18"/>
            <p:cNvSpPr/>
            <p:nvPr/>
          </p:nvSpPr>
          <p:spPr>
            <a:xfrm flipV="1">
              <a:off x="2209680" y="1828440"/>
              <a:ext cx="0" cy="2133720"/>
            </a:xfrm>
            <a:prstGeom prst="line">
              <a:avLst/>
            </a:prstGeom>
            <a:ln w="38160">
              <a:solidFill>
                <a:srgbClr val="cc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2250360" y="199728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otal For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20"/>
          <p:cNvSpPr/>
          <p:nvPr/>
        </p:nvSpPr>
        <p:spPr>
          <a:xfrm>
            <a:off x="5622120" y="39276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tal Force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21"/>
          <p:cNvSpPr txBox="1"/>
          <p:nvPr/>
        </p:nvSpPr>
        <p:spPr>
          <a:xfrm>
            <a:off x="762120" y="4724280"/>
            <a:ext cx="2895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ces Ad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22"/>
          <p:cNvSpPr txBox="1"/>
          <p:nvPr/>
        </p:nvSpPr>
        <p:spPr>
          <a:xfrm>
            <a:off x="4648320" y="5334120"/>
            <a:ext cx="3375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ces Cancel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83EC-B02C-4CCF-BA92-1025A632F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When two parallel forces are acting on the cart in the same direction, the net force is the two forces add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tillery+f02-11"/>
          <p:cNvPicPr/>
          <p:nvPr/>
        </p:nvPicPr>
        <p:blipFill>
          <a:blip r:embed="rId1"/>
          <a:srcRect l="0" t="0" r="0" b="66673"/>
          <a:stretch/>
        </p:blipFill>
        <p:spPr>
          <a:xfrm>
            <a:off x="914400" y="2590920"/>
            <a:ext cx="7402680" cy="2286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1523880" y="2514600"/>
            <a:ext cx="121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447920" y="31240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7162920" y="251460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C900-45D5-4E84-835D-F231F24FE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 When two forces are opposite and of equal magnitude, the net force is zer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tillery+f02-11"/>
          <p:cNvPicPr/>
          <p:nvPr/>
        </p:nvPicPr>
        <p:blipFill>
          <a:blip r:embed="rId1"/>
          <a:srcRect l="0" t="31486" r="0" b="31486"/>
          <a:stretch/>
        </p:blipFill>
        <p:spPr>
          <a:xfrm>
            <a:off x="685800" y="2209680"/>
            <a:ext cx="7935840" cy="2895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447920" y="31240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447920" y="24382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620120" y="24382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F24D-E8EE-4CCA-94C5-264B47D16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When two parallel forces are not of equal magnitude, the net force is the difference in the direction of the larger forc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tillery+f02-11"/>
          <p:cNvPicPr/>
          <p:nvPr/>
        </p:nvPicPr>
        <p:blipFill>
          <a:blip r:embed="rId1"/>
          <a:srcRect l="0" t="66673" r="0" b="0"/>
          <a:stretch/>
        </p:blipFill>
        <p:spPr>
          <a:xfrm>
            <a:off x="685800" y="1905120"/>
            <a:ext cx="7935840" cy="3352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295280" y="3048120"/>
            <a:ext cx="121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N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371600" y="2209680"/>
            <a:ext cx="121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391520" y="22096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B46B-F600-494F-A211-5BE9CC7B7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s is the study of forces and the resulting mo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we study acceleration and its cause…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1640" y="30481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in Newton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75FF-A1B1-4FA5-AC62-493E97898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et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Mechanics%20Friction%20Big"/>
          <p:cNvPicPr/>
          <p:nvPr/>
        </p:nvPicPr>
        <p:blipFill>
          <a:blip r:embed="rId1"/>
          <a:srcRect l="19736" t="3971" r="0" b="0"/>
          <a:stretch/>
        </p:blipFill>
        <p:spPr>
          <a:xfrm>
            <a:off x="2057400" y="1676520"/>
            <a:ext cx="5578560" cy="3687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4"/>
          <p:cNvGrpSpPr/>
          <p:nvPr/>
        </p:nvGrpSpPr>
        <p:grpSpPr>
          <a:xfrm>
            <a:off x="2665440" y="2666880"/>
            <a:ext cx="2000520" cy="703800"/>
            <a:chOff x="2665440" y="2666880"/>
            <a:chExt cx="2000520" cy="703800"/>
          </a:xfrm>
        </p:grpSpPr>
        <p:sp>
          <p:nvSpPr>
            <p:cNvPr id="202" name="Line 5"/>
            <p:cNvSpPr/>
            <p:nvPr/>
          </p:nvSpPr>
          <p:spPr>
            <a:xfrm>
              <a:off x="3048120" y="304776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"/>
            <p:cNvSpPr/>
            <p:nvPr/>
          </p:nvSpPr>
          <p:spPr>
            <a:xfrm>
              <a:off x="2665440" y="2666880"/>
              <a:ext cx="200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ce on per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y b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7"/>
          <p:cNvGrpSpPr/>
          <p:nvPr/>
        </p:nvGrpSpPr>
        <p:grpSpPr>
          <a:xfrm>
            <a:off x="1748160" y="5334120"/>
            <a:ext cx="2520000" cy="398880"/>
            <a:chOff x="1748160" y="5334120"/>
            <a:chExt cx="2520000" cy="398880"/>
          </a:xfrm>
        </p:grpSpPr>
        <p:sp>
          <p:nvSpPr>
            <p:cNvPr id="205" name="Line 8"/>
            <p:cNvSpPr/>
            <p:nvPr/>
          </p:nvSpPr>
          <p:spPr>
            <a:xfrm flipH="1">
              <a:off x="2209680" y="5715000"/>
              <a:ext cx="1752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1748160" y="5334120"/>
              <a:ext cx="25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ce on floor by b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4495680" y="5257800"/>
            <a:ext cx="1815120" cy="703800"/>
            <a:chOff x="4495680" y="5257800"/>
            <a:chExt cx="1815120" cy="703800"/>
          </a:xfrm>
        </p:grpSpPr>
        <p:sp>
          <p:nvSpPr>
            <p:cNvPr id="208" name="Line 11"/>
            <p:cNvSpPr/>
            <p:nvPr/>
          </p:nvSpPr>
          <p:spPr>
            <a:xfrm>
              <a:off x="4495680" y="5638680"/>
              <a:ext cx="15238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4568040" y="5257800"/>
              <a:ext cx="174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ce on b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y flo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13"/>
          <p:cNvSpPr/>
          <p:nvPr/>
        </p:nvSpPr>
        <p:spPr>
          <a:xfrm>
            <a:off x="824040" y="5867280"/>
            <a:ext cx="75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’s the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m of all the forces that determines the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2057400" y="2666880"/>
            <a:ext cx="6094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4797360" y="2895480"/>
            <a:ext cx="1954800" cy="1054800"/>
            <a:chOff x="4797360" y="2895480"/>
            <a:chExt cx="1954800" cy="1054800"/>
          </a:xfrm>
        </p:grpSpPr>
        <p:sp>
          <p:nvSpPr>
            <p:cNvPr id="213" name="Line 16"/>
            <p:cNvSpPr/>
            <p:nvPr/>
          </p:nvSpPr>
          <p:spPr>
            <a:xfrm flipH="1">
              <a:off x="5130360" y="361620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5648400" y="2895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4797360" y="3246480"/>
              <a:ext cx="195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ce on bo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y 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9ADE-F6E3-450D-8B79-B867CF4D4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et forces on an object equal zero, the object is in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force of zero mean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o accel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be at 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it may be moving at a constant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73DE-FABC-46BE-AAA9-64C9EA440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ces in a Singl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orizonta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pplied opposes the force of fri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pplied opposes the force of gravity, that is, the w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363-E421-4865-85E1-50EE613EB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Normal Force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force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n object supported by a surface is the component of the supporting force that is perpendicular to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is sitting on a level surface then the normal force is always equal and opposite of the weight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orcess.gif (1105 bytes)"/>
          <p:cNvPicPr/>
          <p:nvPr/>
        </p:nvPicPr>
        <p:blipFill>
          <a:blip r:embed="rId1"/>
          <a:srcRect l="14908" t="6108" r="0" b="4080"/>
          <a:stretch/>
        </p:blipFill>
        <p:spPr>
          <a:xfrm>
            <a:off x="5791320" y="1905120"/>
            <a:ext cx="2766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6B11-F4AB-4F71-B732-9E70D7E03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ime two surfaces are in contact there will be a norm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ce is always perpendicular to the surfaces 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Normal is often synonymous with the word perpendicul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4266-0A7E-4C30-B62F-F685C1C00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Script MT Bold"/>
              </a:rPr>
              <a:t>(4)Dynamic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riction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Hallow’s 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ghter than air balloon is accelerating upwards at 2m/s/s. Its total mass is 2000 kg. What must be the net 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us: What is the lift 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5487-4121-4F14-98E9-321034F60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A330-F81D-4228-ACBF-173504C8F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force that opposes the motion of two surfaces in conta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tatic Fric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that opposes the start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from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liding Fri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from constant velo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frictional forces always greater than sliding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DADC-65E0-4A99-AFB2-05B8B3C51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014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force of friction depends on two thing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ature of the surfaces in contact…the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efficient of friction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rce pushing the surfaces together…the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ormal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 baseline="-14000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8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 baseline="-14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5212-4E6B-42FF-AD37-F9285C79A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Happening With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el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el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9A3-47AE-43BC-B999-E949DB794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31509" t="1849" r="3013" b="67392"/>
          <a:stretch/>
        </p:blipFill>
        <p:spPr>
          <a:xfrm>
            <a:off x="609480" y="2209680"/>
            <a:ext cx="548640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First Law:  The Law of Iner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rtia is the tendency of a body in motion to stay in motion and a body at rest to stay at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2362320" y="3581280"/>
          <a:ext cx="19047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581280"/>
                    <a:ext cx="1904760" cy="2819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63" name="Group 12"/>
          <p:cNvGrpSpPr/>
          <p:nvPr/>
        </p:nvGrpSpPr>
        <p:grpSpPr>
          <a:xfrm>
            <a:off x="4267080" y="3276720"/>
            <a:ext cx="4648320" cy="2743200"/>
            <a:chOff x="4267080" y="3276720"/>
            <a:chExt cx="4648320" cy="2743200"/>
          </a:xfrm>
        </p:grpSpPr>
        <p:pic>
          <p:nvPicPr>
            <p:cNvPr id="64" name="Picture 7" descr=""/>
            <p:cNvPicPr/>
            <p:nvPr/>
          </p:nvPicPr>
          <p:blipFill>
            <a:blip r:embed="rId4"/>
            <a:srcRect l="36960" t="34980" r="7558" b="13187"/>
            <a:stretch/>
          </p:blipFill>
          <p:spPr>
            <a:xfrm>
              <a:off x="4267080" y="3276720"/>
              <a:ext cx="46483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9"/>
            <p:cNvSpPr/>
            <p:nvPr/>
          </p:nvSpPr>
          <p:spPr>
            <a:xfrm>
              <a:off x="4267080" y="5029200"/>
              <a:ext cx="3429000" cy="990720"/>
            </a:xfrm>
            <a:prstGeom prst="rect">
              <a:avLst/>
            </a:prstGeom>
            <a:solidFill>
              <a:srgbClr val="fef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" name="Object 5"/>
          <p:cNvGraphicFramePr/>
          <p:nvPr/>
        </p:nvGraphicFramePr>
        <p:xfrm>
          <a:off x="4114800" y="5029200"/>
          <a:ext cx="1166760" cy="16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029200"/>
                    <a:ext cx="1166760" cy="1657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AAF2-0D73-4BB3-9243-B525E91A7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(4)Dynam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orces on an Inclined Pl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BBF5-3FD9-4365-A7F0-3C43ED697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is an Inclined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lined plane is a simple machine design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the amount of force required to do a given quantity of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extending the distance over which the force is ex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inclined plane"/>
          <p:cNvPicPr/>
          <p:nvPr/>
        </p:nvPicPr>
        <p:blipFill>
          <a:blip r:embed="rId1"/>
          <a:stretch/>
        </p:blipFill>
        <p:spPr>
          <a:xfrm>
            <a:off x="2514600" y="3200400"/>
            <a:ext cx="44956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13B4-9DFD-4A7D-AD8D-6488B49EC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components on incline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A82-E2D1-4DA9-80EB-64EEDB565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ert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rtia is the property of matter to resist change in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is the measure of iner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is measured in kilograms (k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nd when will mass chang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B35-35F2-4C1F-9D0A-30FBFEC18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685800" y="3276720"/>
            <a:ext cx="5029200" cy="3114720"/>
            <a:chOff x="685800" y="3276720"/>
            <a:chExt cx="5029200" cy="3114720"/>
          </a:xfrm>
        </p:grpSpPr>
        <p:pic>
          <p:nvPicPr>
            <p:cNvPr id="73" name="Picture 5" descr=""/>
            <p:cNvPicPr/>
            <p:nvPr/>
          </p:nvPicPr>
          <p:blipFill>
            <a:blip r:embed="rId1"/>
            <a:srcRect l="6036" t="31217" r="22110" b="1849"/>
            <a:stretch/>
          </p:blipFill>
          <p:spPr>
            <a:xfrm>
              <a:off x="685800" y="3276720"/>
              <a:ext cx="502920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6"/>
            <p:cNvSpPr/>
            <p:nvPr/>
          </p:nvSpPr>
          <p:spPr>
            <a:xfrm>
              <a:off x="1704960" y="3276720"/>
              <a:ext cx="4010040" cy="1692000"/>
            </a:xfrm>
            <a:prstGeom prst="rect">
              <a:avLst/>
            </a:prstGeom>
            <a:solidFill>
              <a:srgbClr val="fef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First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066680"/>
            <a:ext cx="7162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n object is at rest or at constant velocity, its acceleration is z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these conditions the object is said to be in a state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quilibrium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the state of equilibrium has no net forces acting up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t force (unbalanced force) is needed to change the state of motion of an ob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1B68-7540-4105-B7C7-E1A8D7CD1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Second Law: 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   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The Law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 forc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uses a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eleratio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ce is directly proportional to accel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4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sulting acceleration is inversely proportional to the mass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1/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imes New Roman"/>
              </a:rPr>
              <a:t>F = ma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ingle most important equation in Physic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836F-C83B-4D3E-9636-E84885E4B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Second Law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t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is the unit of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N = k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1.00 kg mass that undergoes a 1.00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cceleration is experiencing a force of 1.00 New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70B1-9867-4037-9E61-BC4537275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9480" y="1676520"/>
            <a:ext cx="3962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ce as much force produces twice as much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37339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ce the force on twice the mass gives the same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14440" y="2286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of h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es the b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724280" y="16002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force accelerates 2 bricks 1/2 as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724280" y="3733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bricks, 1/3 as much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rcRect l="19183" t="45250" r="15624" b="39292"/>
          <a:stretch/>
        </p:blipFill>
        <p:spPr>
          <a:xfrm>
            <a:off x="1143000" y="2514600"/>
            <a:ext cx="259092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2"/>
          <a:srcRect l="19920" t="50008" r="16766" b="36918"/>
          <a:stretch/>
        </p:blipFill>
        <p:spPr>
          <a:xfrm>
            <a:off x="5410080" y="2514600"/>
            <a:ext cx="266724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3"/>
          <a:srcRect l="15346" t="73817" r="17542" b="7150"/>
          <a:stretch/>
        </p:blipFill>
        <p:spPr>
          <a:xfrm>
            <a:off x="1143000" y="4952880"/>
            <a:ext cx="266688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"/>
          <p:cNvPicPr/>
          <p:nvPr/>
        </p:nvPicPr>
        <p:blipFill>
          <a:blip r:embed="rId4"/>
          <a:srcRect l="18102" t="75019" r="16766" b="5961"/>
          <a:stretch/>
        </p:blipFill>
        <p:spPr>
          <a:xfrm>
            <a:off x="5410080" y="4876920"/>
            <a:ext cx="274320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"/>
          <p:cNvPicPr/>
          <p:nvPr/>
        </p:nvPicPr>
        <p:blipFill>
          <a:blip r:embed="rId5"/>
          <a:srcRect l="15346" t="16667" r="19461" b="69067"/>
          <a:stretch/>
        </p:blipFill>
        <p:spPr>
          <a:xfrm>
            <a:off x="685800" y="228600"/>
            <a:ext cx="33526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2:07:05Z</dcterms:created>
  <dc:creator>Linda Legare</dc:creator>
  <dc:description/>
  <dc:language>en-US</dc:language>
  <cp:lastModifiedBy>gandella</cp:lastModifiedBy>
  <dcterms:modified xsi:type="dcterms:W3CDTF">2009-10-29T11:23:11Z</dcterms:modified>
  <cp:revision>134</cp:revision>
  <dc:subject/>
  <dc:title>Force</dc:title>
</cp:coreProperties>
</file>